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A440-55C5-4CFF-8D01-ED17512F3A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B922-DA81-4A37-869D-38209FD7283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FA74-89AA-4E20-A419-1F6423C4780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300D3-1576-4A41-B3BE-49620415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65D96-AB8F-44D2-85A4-F1F7F74F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B415F-6C84-4246-AD01-9F594F41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0D076-126B-43CF-A3E0-9F852401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AFC89-9008-460C-BD60-99FA8989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BA3C4-0737-4A36-B0C2-0A36E49F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D0D46-715E-42DB-8592-BCDC45EE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4ED2A-4AC1-4FC8-B189-4D60D622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7707D-EB7C-4F29-9B56-F747396B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BD7A3-C20B-4777-97B5-A7E61D83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0A73B-EE44-426F-9F4C-39780C5A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1A0B8-194E-4449-92E3-A338C7BC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D11FC2-BAA1-4ACB-8F8D-794D5314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322428-F055-4A58-A31C-624323BA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CA1A17-A9F2-491F-934D-7D353A39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2CCC2D-E3E0-4AA1-B962-266004E1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5C2A4D-9FDE-4044-B546-DC3E75DF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C0CD14-267C-41C2-A321-A083448E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DC4B5D-9426-4244-B72C-F5FAE4F3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6511A4-01E3-4065-B2F6-CED181A6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5EC234-378E-487E-876C-C2DEE412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F669B0-BCBA-4FED-9AB8-DB7F710E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88C982-D756-4E80-A8A8-8C9437BA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BA8070-8583-4E84-85B9-CAABE319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C6EC-7059-48B5-B78A-307A07D4B26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9ED0-14BD-431D-8658-FF7D0F29A84F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1A44-7EEC-4D28-94D2-84581E2D633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7082-188B-49FB-BD68-E86FF7917C1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1AC1-E304-4EF7-8A2A-0DE93D04F2C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B878-AF90-45A8-A2F9-DF320315C77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5980-963E-4D30-ADDB-D44F602E5D4F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214360"/>
            <a:ext cx="83152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4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11"/>
          <p:cNvGrpSpPr/>
          <p:nvPr/>
        </p:nvGrpSpPr>
        <p:grpSpPr>
          <a:xfrm>
            <a:off x="285840" y="71280"/>
            <a:ext cx="8715240" cy="5999400"/>
            <a:chOff x="285840" y="71280"/>
            <a:chExt cx="8715240" cy="5999400"/>
          </a:xfrm>
        </p:grpSpPr>
        <p:sp>
          <p:nvSpPr>
            <p:cNvPr id="538" name="AutoShape 4"/>
            <p:cNvSpPr/>
            <p:nvPr/>
          </p:nvSpPr>
          <p:spPr>
            <a:xfrm>
              <a:off x="28584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케어기술의 적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9" name="그룹 7"/>
            <p:cNvGrpSpPr/>
            <p:nvPr/>
          </p:nvGrpSpPr>
          <p:grpSpPr>
            <a:xfrm>
              <a:off x="285840" y="745920"/>
              <a:ext cx="8715240" cy="3254760"/>
              <a:chOff x="285840" y="745920"/>
              <a:chExt cx="8715240" cy="3254760"/>
            </a:xfrm>
          </p:grpSpPr>
          <p:sp>
            <p:nvSpPr>
              <p:cNvPr id="540" name="AutoShape 2"/>
              <p:cNvSpPr/>
              <p:nvPr/>
            </p:nvSpPr>
            <p:spPr>
              <a:xfrm>
                <a:off x="428400" y="1143000"/>
                <a:ext cx="8572680" cy="285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571320" y="1142640"/>
                <a:ext cx="842976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체성과 자립성을 높일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이 유지되고 와상을 예방할 수 있는 주거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와 가족과 통합될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적 사생활이 보장되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에 맞는 기능적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등의 저하로 인한 사고의 예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채광 등의 배려와 비상사태 대응책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시설의 경우 사회적 상호작용을 촉진하는 친사회적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0"/>
              <p:cNvSpPr/>
              <p:nvPr/>
            </p:nvSpPr>
            <p:spPr>
              <a:xfrm>
                <a:off x="285840" y="74592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적합한 생활환경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3" name="직사각형 23"/>
            <p:cNvSpPr/>
            <p:nvPr/>
          </p:nvSpPr>
          <p:spPr>
            <a:xfrm>
              <a:off x="285840" y="4389480"/>
              <a:ext cx="6072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거 및 실내환경 조성방법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직사각형 24"/>
            <p:cNvSpPr/>
            <p:nvPr/>
          </p:nvSpPr>
          <p:spPr>
            <a:xfrm>
              <a:off x="285840" y="5032440"/>
              <a:ext cx="7715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환자의 기본적 일상생활 지원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6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직사각형 25"/>
            <p:cNvSpPr/>
            <p:nvPr/>
          </p:nvSpPr>
          <p:spPr>
            <a:xfrm>
              <a:off x="285840" y="5675400"/>
              <a:ext cx="7286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병의 증상 간호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7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그룹 13"/>
          <p:cNvGrpSpPr/>
          <p:nvPr/>
        </p:nvGrpSpPr>
        <p:grpSpPr>
          <a:xfrm>
            <a:off x="0" y="0"/>
            <a:ext cx="9358200" cy="6656400"/>
            <a:chOff x="0" y="0"/>
            <a:chExt cx="9358200" cy="6656400"/>
          </a:xfrm>
        </p:grpSpPr>
        <p:sp>
          <p:nvSpPr>
            <p:cNvPr id="547" name="AutoShape 2"/>
            <p:cNvSpPr/>
            <p:nvPr/>
          </p:nvSpPr>
          <p:spPr>
            <a:xfrm>
              <a:off x="285480" y="3929040"/>
              <a:ext cx="8643960" cy="143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4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2"/>
            <p:cNvSpPr/>
            <p:nvPr/>
          </p:nvSpPr>
          <p:spPr>
            <a:xfrm>
              <a:off x="1071360" y="71280"/>
              <a:ext cx="82868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8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의 건강문제로 인한 사회비용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85480" y="1285920"/>
              <a:ext cx="86439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1339920"/>
              <a:ext cx="864396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05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,15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 →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.76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의료비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2.3%)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-18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의료급여제도의 노인의료비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,38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총 급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0.3%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당 의료비는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9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만원으로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인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.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 정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이유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인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기요양 욕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료이용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＋건강보험 수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체계 변화와 인상＋고비용 치료기기 도입 등의 병원비용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3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.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국가재정 악화 초래 가능성→ 노인의료비 경감대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17"/>
            <p:cNvSpPr/>
            <p:nvPr/>
          </p:nvSpPr>
          <p:spPr>
            <a:xfrm>
              <a:off x="285480" y="857160"/>
              <a:ext cx="5072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의료비 증가추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10"/>
            <p:cNvGrpSpPr/>
            <p:nvPr/>
          </p:nvGrpSpPr>
          <p:grpSpPr>
            <a:xfrm>
              <a:off x="285480" y="3486240"/>
              <a:ext cx="8572680" cy="1809000"/>
              <a:chOff x="285480" y="3486240"/>
              <a:chExt cx="8572680" cy="1809000"/>
            </a:xfrm>
          </p:grpSpPr>
          <p:sp>
            <p:nvSpPr>
              <p:cNvPr id="554" name="직사각형 18"/>
              <p:cNvSpPr/>
              <p:nvPr/>
            </p:nvSpPr>
            <p:spPr>
              <a:xfrm>
                <a:off x="285480" y="348624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과 가족의 비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Text Box 6"/>
              <p:cNvSpPr/>
              <p:nvPr/>
            </p:nvSpPr>
            <p:spPr>
              <a:xfrm>
                <a:off x="285480" y="3961080"/>
                <a:ext cx="8572680" cy="13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건강문제로 인한 비용은 의료비와 함께 가족노동력 손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등 심리사회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용을 동시 고려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가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압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의 제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 갈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할부담과 가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제한 등의 스트레스로 인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기능과 삶의 질이 저하 되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6" name="그룹 12"/>
            <p:cNvGrpSpPr/>
            <p:nvPr/>
          </p:nvGrpSpPr>
          <p:grpSpPr>
            <a:xfrm>
              <a:off x="0" y="5407200"/>
              <a:ext cx="5796000" cy="1249200"/>
              <a:chOff x="0" y="5407200"/>
              <a:chExt cx="5796000" cy="1249200"/>
            </a:xfrm>
          </p:grpSpPr>
          <p:pic>
            <p:nvPicPr>
              <p:cNvPr id="557" name="Picture 4" descr="C:\DOCUME~1\USER\LOCALS~1\Temp\UNI000006c8818c.gif"/>
              <p:cNvPicPr/>
              <p:nvPr/>
            </p:nvPicPr>
            <p:blipFill>
              <a:blip r:embed="rId11"/>
              <a:stretch/>
            </p:blipFill>
            <p:spPr>
              <a:xfrm>
                <a:off x="0" y="5407200"/>
                <a:ext cx="1390680" cy="12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4"/>
              <p:cNvSpPr/>
              <p:nvPr/>
            </p:nvSpPr>
            <p:spPr>
              <a:xfrm>
                <a:off x="1312920" y="6085080"/>
                <a:ext cx="448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치매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건강과 노인성 질환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주요 질환과 질병의 양상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일상생활 동작능력과 영양관리방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환자 보호를 위한 케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기술의 습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건강 문제로 인한 개인 및 사회비용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4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건강과 케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1"/>
          <p:cNvGrpSpPr/>
          <p:nvPr/>
        </p:nvGrpSpPr>
        <p:grpSpPr>
          <a:xfrm>
            <a:off x="0" y="0"/>
            <a:ext cx="9144000" cy="6370200"/>
            <a:chOff x="0" y="0"/>
            <a:chExt cx="9144000" cy="6370200"/>
          </a:xfrm>
        </p:grpSpPr>
        <p:sp>
          <p:nvSpPr>
            <p:cNvPr id="442" name="AutoShape 2"/>
            <p:cNvSpPr/>
            <p:nvPr/>
          </p:nvSpPr>
          <p:spPr>
            <a:xfrm>
              <a:off x="180720" y="128592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건강과 질병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5" name="그룹 10"/>
            <p:cNvGrpSpPr/>
            <p:nvPr/>
          </p:nvGrpSpPr>
          <p:grpSpPr>
            <a:xfrm>
              <a:off x="0" y="857160"/>
              <a:ext cx="8929800" cy="2683800"/>
              <a:chOff x="0" y="857160"/>
              <a:chExt cx="8929800" cy="2683800"/>
            </a:xfrm>
          </p:grpSpPr>
          <p:sp>
            <p:nvSpPr>
              <p:cNvPr id="446" name="AutoShape 29"/>
              <p:cNvSpPr/>
              <p:nvPr/>
            </p:nvSpPr>
            <p:spPr>
              <a:xfrm>
                <a:off x="0" y="8571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건강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7" name="Text Box 25"/>
              <p:cNvSpPr/>
              <p:nvPr/>
            </p:nvSpPr>
            <p:spPr>
              <a:xfrm>
                <a:off x="288720" y="1285560"/>
                <a:ext cx="86410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히 허약성이나 질병이 없는 상태가 아니라 신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완전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HO).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없는 소극적 의미가 아니라 모든 삶의 영역에서의 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하는 적극적 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은 최악의 건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illness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최고의 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health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양극단으로 하는 연속선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없음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위와 역할 수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환경과의 상호작용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스트레스에 적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복론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자기실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점에서 상이하게 규정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8" name="AutoShape 2"/>
            <p:cNvSpPr/>
            <p:nvPr/>
          </p:nvSpPr>
          <p:spPr>
            <a:xfrm>
              <a:off x="180720" y="4000680"/>
              <a:ext cx="88203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142560" y="3571920"/>
              <a:ext cx="8786880" cy="2798280"/>
              <a:chOff x="142560" y="3571920"/>
              <a:chExt cx="8786880" cy="279828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142560" y="35719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질병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90160" y="4000320"/>
                <a:ext cx="8639280" cy="23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에는 건강 결정요인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습관 등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노화과정이 복합적으로 작용하여 정상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가 병리적 노화과정으로 전이되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결과로 질병을 앓을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행 또는 회피가 가능한 생물학적 불균형 상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을 생물학적 기계의 고장으로만 규정하기 보다는 개인의 주관적 건강평가에 관심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울여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히 노년기에는 질병 유무에 의한 객관적 건강평가와 노인의 주관적 판단에 의한 기능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가가 모두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그룹 11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453" name="AutoShape 2"/>
            <p:cNvSpPr/>
            <p:nvPr/>
          </p:nvSpPr>
          <p:spPr>
            <a:xfrm>
              <a:off x="323640" y="4429080"/>
              <a:ext cx="84632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323640" y="1214280"/>
              <a:ext cx="846324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5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성 질환의 특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7" name="그룹 10"/>
            <p:cNvGrpSpPr/>
            <p:nvPr/>
          </p:nvGrpSpPr>
          <p:grpSpPr>
            <a:xfrm>
              <a:off x="145800" y="804600"/>
              <a:ext cx="8926560" cy="3219480"/>
              <a:chOff x="145800" y="804600"/>
              <a:chExt cx="8926560" cy="3219480"/>
            </a:xfrm>
          </p:grpSpPr>
          <p:sp>
            <p:nvSpPr>
              <p:cNvPr id="458" name="AutoShape 29"/>
              <p:cNvSpPr/>
              <p:nvPr/>
            </p:nvSpPr>
            <p:spPr>
              <a:xfrm>
                <a:off x="145800" y="80460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생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병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임상적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25"/>
              <p:cNvSpPr/>
              <p:nvPr/>
            </p:nvSpPr>
            <p:spPr>
              <a:xfrm>
                <a:off x="431280" y="1233000"/>
                <a:ext cx="864108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과 위험인자 사이의 관련성이 약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에 수반되는 증상이 없거나 비전형적인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라 개인차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장기질환의 특성을 지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장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일으키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해질의 균형 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항상성을 유지하기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나 경제생활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체력과 예비능력이 위축되어 있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와 병리적 노화의 구분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0" name="그룹 10"/>
            <p:cNvGrpSpPr/>
            <p:nvPr/>
          </p:nvGrpSpPr>
          <p:grpSpPr>
            <a:xfrm>
              <a:off x="142560" y="4000320"/>
              <a:ext cx="8925120" cy="2410200"/>
              <a:chOff x="142560" y="4000320"/>
              <a:chExt cx="8925120" cy="2410200"/>
            </a:xfrm>
          </p:grpSpPr>
          <p:sp>
            <p:nvSpPr>
              <p:cNvPr id="461" name="AutoShape 29"/>
              <p:cNvSpPr/>
              <p:nvPr/>
            </p:nvSpPr>
            <p:spPr>
              <a:xfrm>
                <a:off x="142560" y="40003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진단과 치료과정의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Text Box 25"/>
              <p:cNvSpPr/>
              <p:nvPr/>
            </p:nvSpPr>
            <p:spPr>
              <a:xfrm>
                <a:off x="428040" y="4474800"/>
                <a:ext cx="863964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의 청취가 어려워 진단과 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검사결과가 젊은 환자는 물론 개인에 따라 차이가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합병증을 수반하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적 치료와 간호를 필요로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치료 뿐 아니라 삶의 질에 대한 판단도 중요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상환자가 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6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sp>
          <p:nvSpPr>
            <p:cNvPr id="464" name="AutoShape 2"/>
            <p:cNvSpPr/>
            <p:nvPr/>
          </p:nvSpPr>
          <p:spPr>
            <a:xfrm>
              <a:off x="285480" y="5500800"/>
              <a:ext cx="864396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요 질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7" name="그룹 34"/>
            <p:cNvGrpSpPr/>
            <p:nvPr/>
          </p:nvGrpSpPr>
          <p:grpSpPr>
            <a:xfrm>
              <a:off x="285480" y="928440"/>
              <a:ext cx="8643960" cy="928440"/>
              <a:chOff x="285480" y="928440"/>
              <a:chExt cx="8643960" cy="928440"/>
            </a:xfrm>
          </p:grpSpPr>
          <p:sp>
            <p:nvSpPr>
              <p:cNvPr id="468" name="AutoShape 2"/>
              <p:cNvSpPr/>
              <p:nvPr/>
            </p:nvSpPr>
            <p:spPr>
              <a:xfrm>
                <a:off x="285480" y="128556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AutoShape 4"/>
              <p:cNvSpPr/>
              <p:nvPr/>
            </p:nvSpPr>
            <p:spPr>
              <a:xfrm>
                <a:off x="356760" y="92844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순환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호흡기계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6"/>
              <p:cNvSpPr/>
              <p:nvPr/>
            </p:nvSpPr>
            <p:spPr>
              <a:xfrm>
                <a:off x="285480" y="142848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동맥경화성 혈관질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부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폐쇄성 폐질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1" name="AutoShape 2"/>
            <p:cNvSpPr/>
            <p:nvPr/>
          </p:nvSpPr>
          <p:spPr>
            <a:xfrm>
              <a:off x="285480" y="2357280"/>
              <a:ext cx="864396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2" name="그룹 11"/>
            <p:cNvGrpSpPr/>
            <p:nvPr/>
          </p:nvGrpSpPr>
          <p:grpSpPr>
            <a:xfrm>
              <a:off x="285480" y="2000160"/>
              <a:ext cx="8643960" cy="868680"/>
              <a:chOff x="285480" y="2000160"/>
              <a:chExt cx="8643960" cy="868680"/>
            </a:xfrm>
          </p:grpSpPr>
          <p:sp>
            <p:nvSpPr>
              <p:cNvPr id="473" name="AutoShape 4"/>
              <p:cNvSpPr/>
              <p:nvPr/>
            </p:nvSpPr>
            <p:spPr>
              <a:xfrm>
                <a:off x="356760" y="20001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소화기계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장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6"/>
              <p:cNvSpPr/>
              <p:nvPr/>
            </p:nvSpPr>
            <p:spPr>
              <a:xfrm>
                <a:off x="285480" y="250056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악성 위종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장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간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신부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5" name="그룹 33"/>
            <p:cNvGrpSpPr/>
            <p:nvPr/>
          </p:nvGrpSpPr>
          <p:grpSpPr>
            <a:xfrm>
              <a:off x="285480" y="3071880"/>
              <a:ext cx="8643960" cy="928440"/>
              <a:chOff x="285480" y="3071880"/>
              <a:chExt cx="8643960" cy="92844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285480" y="342900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7" name="그룹 11"/>
              <p:cNvGrpSpPr/>
              <p:nvPr/>
            </p:nvGrpSpPr>
            <p:grpSpPr>
              <a:xfrm>
                <a:off x="285480" y="3071880"/>
                <a:ext cx="8643960" cy="868320"/>
                <a:chOff x="285480" y="3071880"/>
                <a:chExt cx="8643960" cy="868320"/>
              </a:xfrm>
            </p:grpSpPr>
            <p:sp>
              <p:nvSpPr>
                <p:cNvPr id="478" name="AutoShape 4"/>
                <p:cNvSpPr/>
                <p:nvPr/>
              </p:nvSpPr>
              <p:spPr>
                <a:xfrm>
                  <a:off x="356760" y="3071880"/>
                  <a:ext cx="40719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근골격계</a:t>
                  </a: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내분비계 질환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9" name="Text Box 6"/>
                <p:cNvSpPr/>
                <p:nvPr/>
              </p:nvSpPr>
              <p:spPr>
                <a:xfrm>
                  <a:off x="285480" y="3571920"/>
                  <a:ext cx="8643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관절염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골다공증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3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그룹 32"/>
            <p:cNvGrpSpPr/>
            <p:nvPr/>
          </p:nvGrpSpPr>
          <p:grpSpPr>
            <a:xfrm>
              <a:off x="285480" y="4130640"/>
              <a:ext cx="8715600" cy="868680"/>
              <a:chOff x="285480" y="4130640"/>
              <a:chExt cx="8715600" cy="868680"/>
            </a:xfrm>
          </p:grpSpPr>
          <p:sp>
            <p:nvSpPr>
              <p:cNvPr id="481" name="AutoShape 2"/>
              <p:cNvSpPr/>
              <p:nvPr/>
            </p:nvSpPr>
            <p:spPr>
              <a:xfrm>
                <a:off x="285480" y="4416480"/>
                <a:ext cx="8644320" cy="571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2" name="그룹 11"/>
              <p:cNvGrpSpPr/>
              <p:nvPr/>
            </p:nvGrpSpPr>
            <p:grpSpPr>
              <a:xfrm>
                <a:off x="356760" y="4130640"/>
                <a:ext cx="8644320" cy="868680"/>
                <a:chOff x="356760" y="4130640"/>
                <a:chExt cx="8644320" cy="868680"/>
              </a:xfrm>
            </p:grpSpPr>
            <p:sp>
              <p:nvSpPr>
                <p:cNvPr id="483" name="AutoShape 4"/>
                <p:cNvSpPr/>
                <p:nvPr/>
              </p:nvSpPr>
              <p:spPr>
                <a:xfrm>
                  <a:off x="428040" y="4130640"/>
                  <a:ext cx="407196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비뇨기계 질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6"/>
                <p:cNvSpPr/>
                <p:nvPr/>
              </p:nvSpPr>
              <p:spPr>
                <a:xfrm>
                  <a:off x="356760" y="4631040"/>
                  <a:ext cx="864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백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녹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전립선 비대증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5" name="그룹 11"/>
            <p:cNvGrpSpPr/>
            <p:nvPr/>
          </p:nvGrpSpPr>
          <p:grpSpPr>
            <a:xfrm>
              <a:off x="357120" y="5143680"/>
              <a:ext cx="8643960" cy="1204920"/>
              <a:chOff x="357120" y="5143680"/>
              <a:chExt cx="8643960" cy="1204920"/>
            </a:xfrm>
          </p:grpSpPr>
          <p:sp>
            <p:nvSpPr>
              <p:cNvPr id="486" name="AutoShape 4"/>
              <p:cNvSpPr/>
              <p:nvPr/>
            </p:nvSpPr>
            <p:spPr>
              <a:xfrm>
                <a:off x="428400" y="514368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경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정신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Text Box 6"/>
              <p:cNvSpPr/>
              <p:nvPr/>
            </p:nvSpPr>
            <p:spPr>
              <a:xfrm>
                <a:off x="357120" y="5629680"/>
                <a:ext cx="86439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졸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우울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상세히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그룹 18"/>
          <p:cNvGrpSpPr/>
          <p:nvPr/>
        </p:nvGrpSpPr>
        <p:grpSpPr>
          <a:xfrm>
            <a:off x="0" y="0"/>
            <a:ext cx="9358200" cy="6346440"/>
            <a:chOff x="0" y="0"/>
            <a:chExt cx="9358200" cy="6346440"/>
          </a:xfrm>
        </p:grpSpPr>
        <p:sp>
          <p:nvSpPr>
            <p:cNvPr id="48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질병 양상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0" name="그룹 16"/>
            <p:cNvGrpSpPr/>
            <p:nvPr/>
          </p:nvGrpSpPr>
          <p:grpSpPr>
            <a:xfrm>
              <a:off x="0" y="0"/>
              <a:ext cx="9144000" cy="6346440"/>
              <a:chOff x="0" y="0"/>
              <a:chExt cx="9144000" cy="634644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285480" y="2786040"/>
                <a:ext cx="8643960" cy="171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9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85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AutoShape 2"/>
              <p:cNvSpPr/>
              <p:nvPr/>
            </p:nvSpPr>
            <p:spPr>
              <a:xfrm>
                <a:off x="285480" y="1143000"/>
                <a:ext cx="864396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AutoShape 4"/>
              <p:cNvSpPr/>
              <p:nvPr/>
            </p:nvSpPr>
            <p:spPr>
              <a:xfrm>
                <a:off x="357120" y="785520"/>
                <a:ext cx="4319640" cy="323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만성질환 유병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6"/>
              <p:cNvSpPr/>
              <p:nvPr/>
            </p:nvSpPr>
            <p:spPr>
              <a:xfrm>
                <a:off x="285480" y="1142640"/>
                <a:ext cx="867888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4.0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만성질환을 앓고 있으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.9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질환을 앓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시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수준 낮은 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별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저소득 노인의 유병률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당뇨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지혈증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관절염 등 유병률 높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각한 우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3.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저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낙상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AutoShape 4"/>
              <p:cNvSpPr/>
              <p:nvPr/>
            </p:nvSpPr>
            <p:spPr>
              <a:xfrm>
                <a:off x="357120" y="2319120"/>
                <a:ext cx="431964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질병의 치료와 수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285480" y="2766960"/>
                <a:ext cx="857268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에 따라 치료행태 다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82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치료약 복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병원방문 노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1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입원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득과 교육 수준 낮은 노인 의료이용율이 상대적으로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수발 필요시 받는 경우가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성원이 주로 부양을 담당하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며느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딸로부터 수발 받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히 여성노인 수발자의 부양부담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7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인해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2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도가 일상생활의 지장을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AutoShape 2"/>
              <p:cNvSpPr/>
              <p:nvPr/>
            </p:nvSpPr>
            <p:spPr>
              <a:xfrm>
                <a:off x="285480" y="4903920"/>
                <a:ext cx="8643960" cy="1382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9" name="그룹 11"/>
              <p:cNvGrpSpPr/>
              <p:nvPr/>
            </p:nvGrpSpPr>
            <p:grpSpPr>
              <a:xfrm>
                <a:off x="285480" y="4643640"/>
                <a:ext cx="8572680" cy="1702800"/>
                <a:chOff x="285480" y="4643640"/>
                <a:chExt cx="8572680" cy="1702800"/>
              </a:xfrm>
            </p:grpSpPr>
            <p:sp>
              <p:nvSpPr>
                <p:cNvPr id="500" name="AutoShape 4"/>
                <p:cNvSpPr/>
                <p:nvPr/>
              </p:nvSpPr>
              <p:spPr>
                <a:xfrm>
                  <a:off x="356760" y="4643640"/>
                  <a:ext cx="4319640" cy="374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3.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장애와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사망원인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6"/>
                <p:cNvSpPr/>
                <p:nvPr/>
              </p:nvSpPr>
              <p:spPr>
                <a:xfrm>
                  <a:off x="285480" y="5050080"/>
                  <a:ext cx="8572680" cy="12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장애출현율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18.00%(114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로 전체 인구에 비해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.5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지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청각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병변 등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순으로 출현율 높음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8 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).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노인 장애인이 전체 장애인의 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49.9%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차지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사망원인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심장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폐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혈관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알츠하이머병 등의 순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자살에 의한 사망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6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1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명당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3.7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7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는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46.2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8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세 이상은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67.2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으로 높아짐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그룹 1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일상생활 동작능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6"/>
            <p:cNvGrpSpPr/>
            <p:nvPr/>
          </p:nvGrpSpPr>
          <p:grpSpPr>
            <a:xfrm>
              <a:off x="285480" y="785520"/>
              <a:ext cx="8715600" cy="5572440"/>
              <a:chOff x="285480" y="785520"/>
              <a:chExt cx="8715600" cy="5572440"/>
            </a:xfrm>
          </p:grpSpPr>
          <p:sp>
            <p:nvSpPr>
              <p:cNvPr id="506" name="AutoShape 2"/>
              <p:cNvSpPr/>
              <p:nvPr/>
            </p:nvSpPr>
            <p:spPr>
              <a:xfrm>
                <a:off x="285480" y="4000320"/>
                <a:ext cx="8715600" cy="2357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AutoShape 2"/>
              <p:cNvSpPr/>
              <p:nvPr/>
            </p:nvSpPr>
            <p:spPr>
              <a:xfrm>
                <a:off x="285480" y="1265040"/>
                <a:ext cx="8715600" cy="209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개념과 측정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6760" y="1285560"/>
                <a:ext cx="8644320" cy="20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Katz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동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sic ADL, IADL), Barthel(PADL, IADL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치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체위변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옮겨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변조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변조절 등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단적 일상생활기능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항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= P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lf car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I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 외부 도구적 활동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측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인정조사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능력 평가도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9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arthe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척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0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AutoShape 4"/>
              <p:cNvSpPr/>
              <p:nvPr/>
            </p:nvSpPr>
            <p:spPr>
              <a:xfrm>
                <a:off x="356760" y="349704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일상생활 동작능력의 수준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1" name="Text Box 6"/>
              <p:cNvSpPr/>
              <p:nvPr/>
            </p:nvSpPr>
            <p:spPr>
              <a:xfrm>
                <a:off x="356760" y="407664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항목에 따라 차이 있지만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P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I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보다 높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요양보험제도에서는 일상생활 동작능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행동변화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간호처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활영역의 욕구를 고려하여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능상태와 요양욕구 평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2020)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의하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 P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제한이 있는 노인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5.6%, I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2.0%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소득 낮은 노인 등의 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 비율이 상대적으로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그룹 10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영양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직사각형 17"/>
            <p:cNvSpPr/>
            <p:nvPr/>
          </p:nvSpPr>
          <p:spPr>
            <a:xfrm>
              <a:off x="285480" y="857160"/>
              <a:ext cx="6157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년기의 영양문제 유발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Group 12"/>
            <p:cNvGrpSpPr/>
            <p:nvPr/>
          </p:nvGrpSpPr>
          <p:grpSpPr>
            <a:xfrm>
              <a:off x="285480" y="1285920"/>
              <a:ext cx="8572320" cy="5072040"/>
              <a:chOff x="285480" y="1285920"/>
              <a:chExt cx="8572320" cy="507204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285480" y="1285920"/>
                <a:ext cx="857232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356760" y="1285920"/>
                <a:ext cx="8501040" cy="78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저하와 치아결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기계의 기능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자재 구입과 조리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신 생활 또는 빈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무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직사각형 18"/>
              <p:cNvSpPr/>
              <p:nvPr/>
            </p:nvSpPr>
            <p:spPr>
              <a:xfrm>
                <a:off x="285480" y="2357280"/>
                <a:ext cx="6643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의 영양권장량과 영양소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0" name="AutoShape 2"/>
              <p:cNvSpPr/>
              <p:nvPr/>
            </p:nvSpPr>
            <p:spPr>
              <a:xfrm>
                <a:off x="285480" y="2786040"/>
                <a:ext cx="8572320" cy="357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6"/>
              <p:cNvSpPr/>
              <p:nvPr/>
            </p:nvSpPr>
            <p:spPr>
              <a:xfrm>
                <a:off x="356760" y="2786040"/>
                <a:ext cx="8286840" cy="35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에너지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5-7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 남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Ca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1600Cal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는 전반적으로 열량섭취를 줄이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기질은 충분히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영양소를 균형 있게 섭취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소별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한섭취량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에너지는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 나트륨은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, C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티아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이아신 등은 기준 이하 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관리 필요 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바람직한 식사지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134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올바른 식습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골고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맞게 세끼 식사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간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체중 시에 체중조절을 위한 식이요법이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질병 시에는 식이요법의 병행이 필요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그룹 1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grpSp>
          <p:nvGrpSpPr>
            <p:cNvPr id="523" name="그룹 38"/>
            <p:cNvGrpSpPr/>
            <p:nvPr/>
          </p:nvGrpSpPr>
          <p:grpSpPr>
            <a:xfrm>
              <a:off x="285480" y="1857240"/>
              <a:ext cx="8715600" cy="4429440"/>
              <a:chOff x="285480" y="1857240"/>
              <a:chExt cx="8715600" cy="4429440"/>
            </a:xfrm>
          </p:grpSpPr>
          <p:sp>
            <p:nvSpPr>
              <p:cNvPr id="524" name="AutoShape 2"/>
              <p:cNvSpPr/>
              <p:nvPr/>
            </p:nvSpPr>
            <p:spPr>
              <a:xfrm>
                <a:off x="285480" y="4394520"/>
                <a:ext cx="8715600" cy="1892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AutoShape 2"/>
              <p:cNvSpPr/>
              <p:nvPr/>
            </p:nvSpPr>
            <p:spPr>
              <a:xfrm>
                <a:off x="285480" y="1857240"/>
                <a:ext cx="871560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7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환자의 케어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8" name="그룹 15"/>
            <p:cNvGrpSpPr/>
            <p:nvPr/>
          </p:nvGrpSpPr>
          <p:grpSpPr>
            <a:xfrm>
              <a:off x="357120" y="1500120"/>
              <a:ext cx="8643960" cy="4703400"/>
              <a:chOff x="357120" y="1500120"/>
              <a:chExt cx="8643960" cy="4703400"/>
            </a:xfrm>
          </p:grpSpPr>
          <p:grpSp>
            <p:nvGrpSpPr>
              <p:cNvPr id="529" name="그룹 10"/>
              <p:cNvGrpSpPr/>
              <p:nvPr/>
            </p:nvGrpSpPr>
            <p:grpSpPr>
              <a:xfrm>
                <a:off x="357120" y="1500120"/>
                <a:ext cx="8643960" cy="2273040"/>
                <a:chOff x="357120" y="1500120"/>
                <a:chExt cx="8643960" cy="2273040"/>
              </a:xfrm>
            </p:grpSpPr>
            <p:sp>
              <p:nvSpPr>
                <p:cNvPr id="530" name="AutoShape 4"/>
                <p:cNvSpPr/>
                <p:nvPr/>
              </p:nvSpPr>
              <p:spPr>
                <a:xfrm>
                  <a:off x="357120" y="15001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.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의 개념과 특성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1" name="Text Box 6"/>
                <p:cNvSpPr/>
                <p:nvPr/>
              </p:nvSpPr>
              <p:spPr>
                <a:xfrm>
                  <a:off x="357120" y="2001960"/>
                  <a:ext cx="8643960" cy="177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질병이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장애가 있는 자에게 전문지식과 기술에 기반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서비스 또는 원조행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돌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介護로 번역됨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는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완과 지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은 자립생활 능력 배양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원칙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결정권 존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속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의 활용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실천단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형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획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행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평가단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그룹 10"/>
              <p:cNvGrpSpPr/>
              <p:nvPr/>
            </p:nvGrpSpPr>
            <p:grpSpPr>
              <a:xfrm>
                <a:off x="357120" y="4068720"/>
                <a:ext cx="8501400" cy="2134800"/>
                <a:chOff x="357120" y="4068720"/>
                <a:chExt cx="8501400" cy="2134800"/>
              </a:xfrm>
            </p:grpSpPr>
            <p:sp>
              <p:nvSpPr>
                <p:cNvPr id="533" name="AutoShape 4"/>
                <p:cNvSpPr/>
                <p:nvPr/>
              </p:nvSpPr>
              <p:spPr>
                <a:xfrm>
                  <a:off x="357120" y="40687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 기술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4" name="Text Box 6"/>
                <p:cNvSpPr/>
                <p:nvPr/>
              </p:nvSpPr>
              <p:spPr>
                <a:xfrm>
                  <a:off x="357120" y="4660920"/>
                  <a:ext cx="850140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체적 케어 욕구와 문제해결을 위해 사용하는 케어 방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기술의 조건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전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락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확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능숙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활동은 케어 가치관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전문지식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숙련된 기술을 바탕으로 하여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대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의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욕구와 문제에 맞게 개별화된 기술을 활용해야 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AutoShape 2"/>
            <p:cNvSpPr/>
            <p:nvPr/>
          </p:nvSpPr>
          <p:spPr>
            <a:xfrm>
              <a:off x="285480" y="785880"/>
              <a:ext cx="871560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285480" y="823680"/>
              <a:ext cx="87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령노인증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부양기능 약화로 장기요양욕구 지닌 노인 인구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24:25Z</dcterms:modified>
  <cp:revision>26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